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5719-58E4-4396-BC33-64F87BD30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2F7C-8A5B-4D50-A5B7-D2946918B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5736-C864-4657-B4AA-A646834A8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C20C-BECF-4CF0-841B-48C3A4D23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ABE7-723E-4DF9-BAB4-703D53D9C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F259-E616-4033-ABA0-7BC627196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5CD2-AFEF-4E26-95EA-740BFDEF0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2DA7-2183-4D39-B3D3-268CE261C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EE30-7A5A-411B-B003-A337E2E3E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14F1-02C2-403F-BF3C-2D40EAA4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B45E-49FB-4E0F-82B5-10FC5B85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8317-9DAE-49FB-9DC6-BE91C8A3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D4046EA-0B26-4463-BE8C-53577D218558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Food Ch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nimals and Habita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Food Chain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n        Grass seeds        Mouse             ow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00200" y="266688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43400" y="25909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590920"/>
            <a:ext cx="914400" cy="380880"/>
          </a:xfrm>
          <a:prstGeom prst="rightArrow">
            <a:avLst>
              <a:gd name="adj1" fmla="val 50000"/>
              <a:gd name="adj2" fmla="val 6001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33520" y="3276720"/>
            <a:ext cx="1143000" cy="927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2438280" y="3200400"/>
            <a:ext cx="1625760" cy="990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5105520" y="3352680"/>
            <a:ext cx="106668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7315200" y="3124080"/>
            <a:ext cx="1066680" cy="15242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Food chain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25909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n                 Grass                   Rabbit                     F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2666880"/>
            <a:ext cx="914400" cy="381240"/>
          </a:xfrm>
          <a:prstGeom prst="rightArrow">
            <a:avLst>
              <a:gd name="adj1" fmla="val 50000"/>
              <a:gd name="adj2" fmla="val 599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2666880"/>
            <a:ext cx="1067040" cy="4572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5880" y="25909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838080" y="3352680"/>
            <a:ext cx="914400" cy="838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286000" y="3124080"/>
            <a:ext cx="1668600" cy="1001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4419720" y="3200400"/>
            <a:ext cx="1693800" cy="1023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6400800" y="3124080"/>
            <a:ext cx="2367000" cy="13986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Food chain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22860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n               Algae              Water flea                 Sunf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52480" y="2286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2286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43600" y="2286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85800" y="2971800"/>
            <a:ext cx="1092240" cy="1143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2362320" y="3048120"/>
            <a:ext cx="1752480" cy="10206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4343400" y="2895480"/>
            <a:ext cx="1828800" cy="11923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6934320" y="2971800"/>
            <a:ext cx="1828800" cy="12096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Food Chain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90720" y="2133720"/>
            <a:ext cx="73152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un                   Leaf                   Caterpill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hrew                 Bad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33720" y="22096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19720" y="22096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467480" y="22096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09680" y="41148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914400" y="2743200"/>
            <a:ext cx="1219320" cy="11462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3048120" y="2743200"/>
            <a:ext cx="1447560" cy="1096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5715000" y="2819520"/>
            <a:ext cx="1181160" cy="9428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762120" y="4800600"/>
            <a:ext cx="1447560" cy="9493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3505320" y="4800600"/>
            <a:ext cx="799920" cy="11905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3T20:45:58Z</dcterms:created>
  <dc:creator>Education &amp; Culture</dc:creator>
  <dc:description/>
  <dc:language>en-US</dc:language>
  <cp:lastModifiedBy>Pitchford</cp:lastModifiedBy>
  <dcterms:modified xsi:type="dcterms:W3CDTF">2006-09-18T13:57:51Z</dcterms:modified>
  <cp:revision>11</cp:revision>
  <dc:subject/>
  <dc:title>Food Chains and Webs.</dc:title>
</cp:coreProperties>
</file>